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tion d’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131920"/>
            <a:ext cx="8496000" cy="34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tion de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964720" cy="298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tion de fré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280360" cy="27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ulation de phase à quatre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640720" cy="22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ltiplex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2706840"/>
            <a:ext cx="8642160" cy="24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xage en fré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17760"/>
            <a:ext cx="9144000" cy="28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xage statis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636560"/>
            <a:ext cx="856908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numér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71288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d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617840"/>
            <a:ext cx="9144000" cy="44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mission num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rincipaux codes utilisés sont les suiv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de télégraphique, à 5 moments, dont l’alphabet peut comporter ,32 caractères, mais dont seulement 31 sont utilis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de ASCII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7 moments, soit 128 caractè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de EBCDIC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8 moments, qui autorise jusqu’à 256 caractè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de ASCII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(American Standard Code for Information Inter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érisation de la parole télépho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dec de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octet toutes les 125 µs, c’est-à-dire un flot de 64 K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dec évol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ression à 32, 16 et 8 K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ation classique du codec 8 Kbit/s (Internet, UMT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dec très évol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ression jusqu’à 2 Kbit/s mais souvent avec perte de la qualité de la pa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tection et correction d’err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t de pa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lynôme généra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Exemp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eux extrémités de la liaison possèdent en commun un polynôme de degré 16, par exe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partir des éléments binaires de la trame, notés 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 = 0...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– 1, où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 le nombre de bits formant la trame, on constitue un polynôme de degré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– 1 : P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...+ a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–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polynôme est divisé dans l’émetteur par l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lynôme générate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egré 1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ste de cette division est un polynôme d’un degré maximal de 15, qui s’écrit : R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=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... +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valeurs binaires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0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..., 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ont placées dans la trame, dans la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zone de détection d’err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même algorithme est effectué au récepteur qui vérifie que le polynôme R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trouvé correspond bien à celui qui est transporté dans la zone de détection d’err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ission asynch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6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ux de valen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838080"/>
            <a:ext cx="8207280" cy="565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i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914400"/>
            <a:ext cx="7561080" cy="55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351640" cy="28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ission et cod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dage Manch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ctionnement d’un m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261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9:39:04Z</dcterms:created>
  <dc:creator> Guy Pujolle</dc:creator>
  <dc:description/>
  <dc:language>en-US</dc:language>
  <cp:lastModifiedBy>SULPICE</cp:lastModifiedBy>
  <dcterms:modified xsi:type="dcterms:W3CDTF">2004-05-26T15:30:33Z</dcterms:modified>
  <cp:revision>22</cp:revision>
  <dc:subject/>
  <dc:title>Diapositive 1</dc:title>
</cp:coreProperties>
</file>